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8.jpeg" ContentType="image/jpeg"/>
  <Override PartName="/ppt/media/image10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6.jpeg" ContentType="image/jpe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9.jpeg" ContentType="image/jpeg"/>
  <Override PartName="/ppt/media/image4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B503-8BF3-4C05-BDB2-7A248F444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2FB3-5C4D-44CE-8639-5F8C934CC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9991-6B0C-4626-A9F6-46AEFD51A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BF68-CCC0-4836-9835-F36EA7A9C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526FB-1E8A-4228-9E78-D84D54B17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5547A-FD73-4119-9F51-7A213324E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4D4B1-187A-4EA8-A863-98B9CA624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C17B5-7D58-42C4-9B0E-3B676EFBC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D0244-76BE-4CFD-A342-BC13479C2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9D9FB-89CD-4ECA-986E-91D328277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6F5B4-3BED-4BFC-B897-5A7C4095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5621-6107-4B82-98B9-8447C34FE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FAA83-9F44-4579-89D1-92899654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7EC3D-9A79-4D48-9181-A51A7E91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E57AE-F8DA-40E3-9369-26FEE8A0D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CEDD3-B5F4-4C3C-A2DD-B9BB71D9F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6AD23-7BF9-4F46-BECC-6B18934EC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F588-EA0B-44B1-BA08-4EA5D3484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D036-5521-4109-8202-4337DF6F9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0D8E-61F3-4E3F-B93E-9263D6A23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7EA4-7926-4313-A1D1-CA22437C9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10D6-97D8-4654-AEA7-CF2CC25F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95A4-4890-4EA1-81AA-560630A3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73D7-7F47-4A9B-B737-C52EDF90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E034A-A9E9-48A3-94CD-97EAB01AD44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250920" y="620640"/>
            <a:ext cx="8893080" cy="583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69D2E-16A8-483D-8862-5EEF39BE94E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14"/>
          <p:cNvSpPr/>
          <p:nvPr/>
        </p:nvSpPr>
        <p:spPr>
          <a:xfrm>
            <a:off x="644400" y="2852640"/>
            <a:ext cx="288000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18"/>
          <p:cNvSpPr/>
          <p:nvPr/>
        </p:nvSpPr>
        <p:spPr>
          <a:xfrm>
            <a:off x="755640" y="1341360"/>
            <a:ext cx="80312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99"/>
                </a:solidFill>
                <a:latin typeface="Verdana"/>
              </a:rPr>
              <a:t>Система контрол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1" lang="ru-RU" sz="4000" spc="-1" strike="noStrike">
                <a:solidFill>
                  <a:srgbClr val="336699"/>
                </a:solidFill>
                <a:latin typeface="Verdana"/>
              </a:rPr>
              <a:t>и мониторинга качества знаний </a:t>
            </a:r>
            <a:r>
              <a:rPr b="1" lang="en-US" sz="4000" spc="-1" strike="noStrike">
                <a:solidFill>
                  <a:srgbClr val="336699"/>
                </a:solidFill>
                <a:latin typeface="Verdana"/>
              </a:rPr>
              <a:t>PROCLass</a:t>
            </a:r>
            <a:r>
              <a:rPr b="1" lang="ru-RU" sz="4000" spc="-1" strike="noStrike">
                <a:solidFill>
                  <a:srgbClr val="336699"/>
                </a:solidFill>
                <a:latin typeface="Verdana"/>
              </a:rPr>
              <a:t>- современное средство оценки знаний обучающихс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" name="Group 21"/>
          <p:cNvGrpSpPr/>
          <p:nvPr/>
        </p:nvGrpSpPr>
        <p:grpSpPr>
          <a:xfrm>
            <a:off x="-308520" y="-759960"/>
            <a:ext cx="9452520" cy="7617960"/>
            <a:chOff x="-308520" y="-759960"/>
            <a:chExt cx="9452520" cy="7617960"/>
          </a:xfrm>
        </p:grpSpPr>
        <p:sp>
          <p:nvSpPr>
            <p:cNvPr id="88" name="Line 22"/>
            <p:cNvSpPr/>
            <p:nvPr/>
          </p:nvSpPr>
          <p:spPr>
            <a:xfrm>
              <a:off x="0" y="6392880"/>
              <a:ext cx="8675640" cy="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Line 23"/>
            <p:cNvSpPr/>
            <p:nvPr/>
          </p:nvSpPr>
          <p:spPr>
            <a:xfrm>
              <a:off x="0" y="6443640"/>
              <a:ext cx="889308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Line 24"/>
            <p:cNvSpPr/>
            <p:nvPr/>
          </p:nvSpPr>
          <p:spPr>
            <a:xfrm>
              <a:off x="290520" y="1268280"/>
              <a:ext cx="0" cy="558972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Line 25"/>
            <p:cNvSpPr/>
            <p:nvPr/>
          </p:nvSpPr>
          <p:spPr>
            <a:xfrm>
              <a:off x="236520" y="1196280"/>
              <a:ext cx="0" cy="566100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2" name="Group 26"/>
            <p:cNvGrpSpPr/>
            <p:nvPr/>
          </p:nvGrpSpPr>
          <p:grpSpPr>
            <a:xfrm>
              <a:off x="-308520" y="-759960"/>
              <a:ext cx="2625480" cy="2675880"/>
              <a:chOff x="-308520" y="-759960"/>
              <a:chExt cx="2625480" cy="2675880"/>
            </a:xfrm>
          </p:grpSpPr>
          <p:sp>
            <p:nvSpPr>
              <p:cNvPr id="93" name="Arc 27"/>
              <p:cNvSpPr/>
              <p:nvPr/>
            </p:nvSpPr>
            <p:spPr>
              <a:xfrm rot="2524800">
                <a:off x="149040" y="-325440"/>
                <a:ext cx="1509120" cy="1845000"/>
              </a:xfrm>
              <a:custGeom>
                <a:avLst/>
                <a:gdLst>
                  <a:gd name="textAreaLeft" fmla="*/ 0 w 1509120"/>
                  <a:gd name="textAreaRight" fmla="*/ 1509480 w 1509120"/>
                  <a:gd name="textAreaTop" fmla="*/ 0 h 1845000"/>
                  <a:gd name="textAreaBottom" fmla="*/ 1845360 h 1845000"/>
                </a:gdLst>
                <a:ahLst/>
                <a:rect l="textAreaLeft" t="textAreaTop" r="textAreaRight" b="textAreaBottom"/>
                <a:pathLst>
                  <a:path fill="none" w="43200" h="43200">
                    <a:moveTo>
                      <a:pt x="31119" y="2211"/>
                    </a:moveTo>
                    <a:cubicBezTo>
                      <a:pt x="38514" y="5841"/>
                      <a:pt x="43200" y="13362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2524" y="-1"/>
                      <a:pt x="23448" y="59"/>
                      <a:pt x="24365" y="177"/>
                    </a:cubicBezTo>
                  </a:path>
                  <a:path stroke="0" w="43200" h="43200">
                    <a:moveTo>
                      <a:pt x="31119" y="2211"/>
                    </a:moveTo>
                    <a:cubicBezTo>
                      <a:pt x="38514" y="5841"/>
                      <a:pt x="43200" y="13362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2524" y="-1"/>
                      <a:pt x="23448" y="59"/>
                      <a:pt x="24365" y="177"/>
                    </a:cubicBezTo>
                    <a:lnTo>
                      <a:pt x="21600" y="21600"/>
                    </a:lnTo>
                    <a:lnTo>
                      <a:pt x="31119" y="22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94" name="Picture 28" descr="j0395941%5b1%5d"/>
              <p:cNvPicPr/>
              <p:nvPr/>
            </p:nvPicPr>
            <p:blipFill>
              <a:blip r:embed="rId1"/>
              <a:stretch/>
            </p:blipFill>
            <p:spPr>
              <a:xfrm>
                <a:off x="27000" y="8280"/>
                <a:ext cx="1504800" cy="119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Arc 29"/>
              <p:cNvSpPr/>
              <p:nvPr/>
            </p:nvSpPr>
            <p:spPr>
              <a:xfrm rot="2524800">
                <a:off x="240120" y="-534600"/>
                <a:ext cx="1527840" cy="2225520"/>
              </a:xfrm>
              <a:custGeom>
                <a:avLst/>
                <a:gdLst>
                  <a:gd name="textAreaLeft" fmla="*/ 0 w 1527840"/>
                  <a:gd name="textAreaRight" fmla="*/ 1528200 w 1527840"/>
                  <a:gd name="textAreaTop" fmla="*/ 0 h 2225520"/>
                  <a:gd name="textAreaBottom" fmla="*/ 2225880 h 2225520"/>
                </a:gdLst>
                <a:ahLst/>
                <a:rect l="textAreaLeft" t="textAreaTop" r="textAreaRight" b="textAreaBottom"/>
                <a:pathLst>
                  <a:path fill="none" w="21600" h="35286">
                    <a:moveTo>
                      <a:pt x="16053" y="0"/>
                    </a:moveTo>
                    <a:cubicBezTo>
                      <a:pt x="19624" y="3966"/>
                      <a:pt x="21600" y="9114"/>
                      <a:pt x="21600" y="14451"/>
                    </a:cubicBezTo>
                    <a:cubicBezTo>
                      <a:pt x="21600" y="24186"/>
                      <a:pt x="15087" y="32719"/>
                      <a:pt x="5696" y="-30250"/>
                    </a:cubicBezTo>
                  </a:path>
                  <a:path stroke="0" w="21600" h="35286">
                    <a:moveTo>
                      <a:pt x="16053" y="0"/>
                    </a:moveTo>
                    <a:cubicBezTo>
                      <a:pt x="19624" y="3966"/>
                      <a:pt x="21600" y="9114"/>
                      <a:pt x="21600" y="14451"/>
                    </a:cubicBezTo>
                    <a:cubicBezTo>
                      <a:pt x="21600" y="24186"/>
                      <a:pt x="15087" y="32719"/>
                      <a:pt x="5696" y="-30250"/>
                    </a:cubicBezTo>
                    <a:lnTo>
                      <a:pt x="0" y="14451"/>
                    </a:lnTo>
                    <a:lnTo>
                      <a:pt x="16053" y="0"/>
                    </a:lnTo>
                    <a:close/>
                  </a:path>
                </a:pathLst>
              </a:custGeom>
              <a:noFill/>
              <a:ln w="19080">
                <a:solidFill>
                  <a:srgbClr val="33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" name="Arc 30"/>
              <p:cNvSpPr/>
              <p:nvPr/>
            </p:nvSpPr>
            <p:spPr>
              <a:xfrm rot="2524800">
                <a:off x="428760" y="-399600"/>
                <a:ext cx="1266840" cy="2084400"/>
              </a:xfrm>
              <a:custGeom>
                <a:avLst/>
                <a:gdLst>
                  <a:gd name="textAreaLeft" fmla="*/ 0 w 1266840"/>
                  <a:gd name="textAreaRight" fmla="*/ 1267200 w 1266840"/>
                  <a:gd name="textAreaTop" fmla="*/ 0 h 2084400"/>
                  <a:gd name="textAreaBottom" fmla="*/ 2084400 h 2084400"/>
                </a:gdLst>
                <a:ahLst/>
                <a:rect l="textAreaLeft" t="textAreaTop" r="textAreaRight" b="textAreaBottom"/>
                <a:pathLst>
                  <a:path fill="none" w="21600" h="37724">
                    <a:moveTo>
                      <a:pt x="14172" y="0"/>
                    </a:moveTo>
                    <a:cubicBezTo>
                      <a:pt x="18890" y="4102"/>
                      <a:pt x="21600" y="10047"/>
                      <a:pt x="21600" y="16300"/>
                    </a:cubicBezTo>
                    <a:cubicBezTo>
                      <a:pt x="21600" y="27166"/>
                      <a:pt x="13527" y="-29195"/>
                      <a:pt x="2749" y="-27812"/>
                    </a:cubicBezTo>
                  </a:path>
                  <a:path stroke="0" w="21600" h="37724">
                    <a:moveTo>
                      <a:pt x="14172" y="0"/>
                    </a:moveTo>
                    <a:cubicBezTo>
                      <a:pt x="18890" y="4102"/>
                      <a:pt x="21600" y="10047"/>
                      <a:pt x="21600" y="16300"/>
                    </a:cubicBezTo>
                    <a:cubicBezTo>
                      <a:pt x="21600" y="27166"/>
                      <a:pt x="13527" y="-29195"/>
                      <a:pt x="2749" y="-27812"/>
                    </a:cubicBezTo>
                    <a:lnTo>
                      <a:pt x="0" y="16300"/>
                    </a:lnTo>
                    <a:lnTo>
                      <a:pt x="14172" y="0"/>
                    </a:lnTo>
                    <a:close/>
                  </a:path>
                </a:pathLst>
              </a:custGeom>
              <a:noFill/>
              <a:ln w="1908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7" name="Oval 33"/>
            <p:cNvSpPr/>
            <p:nvPr/>
          </p:nvSpPr>
          <p:spPr>
            <a:xfrm>
              <a:off x="7810560" y="6478560"/>
              <a:ext cx="501480" cy="347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33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Line 35"/>
            <p:cNvSpPr/>
            <p:nvPr/>
          </p:nvSpPr>
          <p:spPr>
            <a:xfrm>
              <a:off x="1692360" y="673200"/>
              <a:ext cx="745164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Line 36"/>
            <p:cNvSpPr/>
            <p:nvPr/>
          </p:nvSpPr>
          <p:spPr>
            <a:xfrm>
              <a:off x="1692360" y="620640"/>
              <a:ext cx="7451640" cy="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Verdana"/>
              </a:rPr>
              <a:t>Порядок работы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. Наличие одного компьютера(для учителя) и проектор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2. Приёмник сигналов и программное обеспечение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3. Беспроводные пульты с индивидуальными чипам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642960" y="347760"/>
            <a:ext cx="7858080" cy="59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642960" y="189000"/>
            <a:ext cx="7858080" cy="59198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"/>
          <p:cNvPicPr/>
          <p:nvPr/>
        </p:nvPicPr>
        <p:blipFill>
          <a:blip r:embed="rId2"/>
          <a:stretch/>
        </p:blipFill>
        <p:spPr>
          <a:xfrm>
            <a:off x="3059280" y="2817720"/>
            <a:ext cx="5352840" cy="32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4920" y="14040"/>
            <a:ext cx="932508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Verdana"/>
              </a:rPr>
              <a:t>Отчёт о результатах тестир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Picture 2" descr="C:\Users\Lenovo\Pictures\скрин результаты.png"/>
          <p:cNvPicPr/>
          <p:nvPr/>
        </p:nvPicPr>
        <p:blipFill>
          <a:blip r:embed="rId1"/>
          <a:stretch/>
        </p:blipFill>
        <p:spPr>
          <a:xfrm>
            <a:off x="903240" y="1031760"/>
            <a:ext cx="7705800" cy="5722920"/>
          </a:xfrm>
          <a:prstGeom prst="rect">
            <a:avLst/>
          </a:prstGeom>
          <a:ln w="9360">
            <a:solidFill>
              <a:srgbClr val="ff99ff"/>
            </a:solidFill>
            <a:miter/>
          </a:ln>
        </p:spPr>
      </p:pic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406760" cy="40845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"/>
          <p:cNvPicPr/>
          <p:nvPr/>
        </p:nvPicPr>
        <p:blipFill>
          <a:blip r:embed="rId2"/>
          <a:stretch/>
        </p:blipFill>
        <p:spPr>
          <a:xfrm>
            <a:off x="4464000" y="3357720"/>
            <a:ext cx="417996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4500720" y="262080"/>
            <a:ext cx="4348080" cy="31352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"/>
          <p:cNvPicPr/>
          <p:nvPr/>
        </p:nvPicPr>
        <p:blipFill>
          <a:blip r:embed="rId2"/>
          <a:stretch/>
        </p:blipFill>
        <p:spPr>
          <a:xfrm>
            <a:off x="233280" y="3343320"/>
            <a:ext cx="4122720" cy="29494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"/>
          <p:cNvPicPr/>
          <p:nvPr/>
        </p:nvPicPr>
        <p:blipFill>
          <a:blip r:embed="rId3"/>
          <a:stretch/>
        </p:blipFill>
        <p:spPr>
          <a:xfrm>
            <a:off x="4356000" y="3403440"/>
            <a:ext cx="4492800" cy="2889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"/>
          <p:cNvPicPr/>
          <p:nvPr/>
        </p:nvPicPr>
        <p:blipFill>
          <a:blip r:embed="rId4"/>
          <a:stretch/>
        </p:blipFill>
        <p:spPr>
          <a:xfrm>
            <a:off x="187200" y="171360"/>
            <a:ext cx="431352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2060"/>
                </a:solidFill>
                <a:latin typeface="Verdana"/>
              </a:rPr>
              <a:t>Проблема 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Verdana"/>
              </a:rPr>
              <a:t>Способы выявления качества знаний обучающихс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Verdana"/>
              </a:rPr>
              <a:t>Поиск оптимальных форм контроля знаний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Verdana"/>
              </a:rPr>
              <a:t>Оценивание качества знани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14"/>
          <p:cNvSpPr/>
          <p:nvPr/>
        </p:nvSpPr>
        <p:spPr>
          <a:xfrm>
            <a:off x="644400" y="2852640"/>
            <a:ext cx="288000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18"/>
          <p:cNvSpPr/>
          <p:nvPr/>
        </p:nvSpPr>
        <p:spPr>
          <a:xfrm>
            <a:off x="1643040" y="642960"/>
            <a:ext cx="75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99"/>
                </a:solidFill>
                <a:latin typeface="Verdana"/>
              </a:rPr>
              <a:t>ТРАДИЦ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19" descr="http://im1-tub-ru.yandex.net/i?id=fd7dea0877f3ea8da9991802ad1681b7-55-144&amp;n=21"/>
          <p:cNvPicPr/>
          <p:nvPr/>
        </p:nvPicPr>
        <p:blipFill>
          <a:blip r:embed="rId1"/>
          <a:stretch/>
        </p:blipFill>
        <p:spPr>
          <a:xfrm>
            <a:off x="392040" y="1643040"/>
            <a:ext cx="2608200" cy="2928960"/>
          </a:xfrm>
          <a:prstGeom prst="rect">
            <a:avLst/>
          </a:prstGeom>
          <a:ln w="0">
            <a:noFill/>
          </a:ln>
        </p:spPr>
      </p:pic>
      <p:grpSp>
        <p:nvGrpSpPr>
          <p:cNvPr id="105" name="Group 21"/>
          <p:cNvGrpSpPr/>
          <p:nvPr/>
        </p:nvGrpSpPr>
        <p:grpSpPr>
          <a:xfrm>
            <a:off x="-308520" y="-759960"/>
            <a:ext cx="9452520" cy="7617960"/>
            <a:chOff x="-308520" y="-759960"/>
            <a:chExt cx="9452520" cy="7617960"/>
          </a:xfrm>
        </p:grpSpPr>
        <p:sp>
          <p:nvSpPr>
            <p:cNvPr id="106" name="Line 22"/>
            <p:cNvSpPr/>
            <p:nvPr/>
          </p:nvSpPr>
          <p:spPr>
            <a:xfrm>
              <a:off x="0" y="6392880"/>
              <a:ext cx="8675640" cy="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Line 23"/>
            <p:cNvSpPr/>
            <p:nvPr/>
          </p:nvSpPr>
          <p:spPr>
            <a:xfrm>
              <a:off x="0" y="6443640"/>
              <a:ext cx="889308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Line 24"/>
            <p:cNvSpPr/>
            <p:nvPr/>
          </p:nvSpPr>
          <p:spPr>
            <a:xfrm>
              <a:off x="290520" y="1268280"/>
              <a:ext cx="0" cy="558972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Line 25"/>
            <p:cNvSpPr/>
            <p:nvPr/>
          </p:nvSpPr>
          <p:spPr>
            <a:xfrm>
              <a:off x="236520" y="1196280"/>
              <a:ext cx="0" cy="566100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0" name="Group 26"/>
            <p:cNvGrpSpPr/>
            <p:nvPr/>
          </p:nvGrpSpPr>
          <p:grpSpPr>
            <a:xfrm>
              <a:off x="-308520" y="-759960"/>
              <a:ext cx="2625480" cy="2675880"/>
              <a:chOff x="-308520" y="-759960"/>
              <a:chExt cx="2625480" cy="2675880"/>
            </a:xfrm>
          </p:grpSpPr>
          <p:sp>
            <p:nvSpPr>
              <p:cNvPr id="111" name="Arc 27"/>
              <p:cNvSpPr/>
              <p:nvPr/>
            </p:nvSpPr>
            <p:spPr>
              <a:xfrm rot="2524800">
                <a:off x="149040" y="-325440"/>
                <a:ext cx="1509120" cy="1845000"/>
              </a:xfrm>
              <a:custGeom>
                <a:avLst/>
                <a:gdLst>
                  <a:gd name="textAreaLeft" fmla="*/ 0 w 1509120"/>
                  <a:gd name="textAreaRight" fmla="*/ 1509480 w 1509120"/>
                  <a:gd name="textAreaTop" fmla="*/ 0 h 1845000"/>
                  <a:gd name="textAreaBottom" fmla="*/ 1845360 h 1845000"/>
                </a:gdLst>
                <a:ahLst/>
                <a:rect l="textAreaLeft" t="textAreaTop" r="textAreaRight" b="textAreaBottom"/>
                <a:pathLst>
                  <a:path fill="none" w="43200" h="43200">
                    <a:moveTo>
                      <a:pt x="31119" y="2211"/>
                    </a:moveTo>
                    <a:cubicBezTo>
                      <a:pt x="38514" y="5841"/>
                      <a:pt x="43200" y="13362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2524" y="-1"/>
                      <a:pt x="23448" y="59"/>
                      <a:pt x="24365" y="177"/>
                    </a:cubicBezTo>
                  </a:path>
                  <a:path stroke="0" w="43200" h="43200">
                    <a:moveTo>
                      <a:pt x="31119" y="2211"/>
                    </a:moveTo>
                    <a:cubicBezTo>
                      <a:pt x="38514" y="5841"/>
                      <a:pt x="43200" y="13362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2524" y="-1"/>
                      <a:pt x="23448" y="59"/>
                      <a:pt x="24365" y="177"/>
                    </a:cubicBezTo>
                    <a:lnTo>
                      <a:pt x="21600" y="21600"/>
                    </a:lnTo>
                    <a:lnTo>
                      <a:pt x="31119" y="22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12" name="Picture 28" descr="j0395941%5b1%5d"/>
              <p:cNvPicPr/>
              <p:nvPr/>
            </p:nvPicPr>
            <p:blipFill>
              <a:blip r:embed="rId2"/>
              <a:stretch/>
            </p:blipFill>
            <p:spPr>
              <a:xfrm>
                <a:off x="27000" y="8280"/>
                <a:ext cx="1504800" cy="119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Arc 29"/>
              <p:cNvSpPr/>
              <p:nvPr/>
            </p:nvSpPr>
            <p:spPr>
              <a:xfrm rot="2524800">
                <a:off x="240120" y="-534600"/>
                <a:ext cx="1527840" cy="2225520"/>
              </a:xfrm>
              <a:custGeom>
                <a:avLst/>
                <a:gdLst>
                  <a:gd name="textAreaLeft" fmla="*/ 0 w 1527840"/>
                  <a:gd name="textAreaRight" fmla="*/ 1528200 w 1527840"/>
                  <a:gd name="textAreaTop" fmla="*/ 0 h 2225520"/>
                  <a:gd name="textAreaBottom" fmla="*/ 2225880 h 2225520"/>
                </a:gdLst>
                <a:ahLst/>
                <a:rect l="textAreaLeft" t="textAreaTop" r="textAreaRight" b="textAreaBottom"/>
                <a:pathLst>
                  <a:path fill="none" w="21600" h="35286">
                    <a:moveTo>
                      <a:pt x="16053" y="0"/>
                    </a:moveTo>
                    <a:cubicBezTo>
                      <a:pt x="19624" y="3966"/>
                      <a:pt x="21600" y="9114"/>
                      <a:pt x="21600" y="14451"/>
                    </a:cubicBezTo>
                    <a:cubicBezTo>
                      <a:pt x="21600" y="24186"/>
                      <a:pt x="15087" y="32719"/>
                      <a:pt x="5696" y="-30250"/>
                    </a:cubicBezTo>
                  </a:path>
                  <a:path stroke="0" w="21600" h="35286">
                    <a:moveTo>
                      <a:pt x="16053" y="0"/>
                    </a:moveTo>
                    <a:cubicBezTo>
                      <a:pt x="19624" y="3966"/>
                      <a:pt x="21600" y="9114"/>
                      <a:pt x="21600" y="14451"/>
                    </a:cubicBezTo>
                    <a:cubicBezTo>
                      <a:pt x="21600" y="24186"/>
                      <a:pt x="15087" y="32719"/>
                      <a:pt x="5696" y="-30250"/>
                    </a:cubicBezTo>
                    <a:lnTo>
                      <a:pt x="0" y="14451"/>
                    </a:lnTo>
                    <a:lnTo>
                      <a:pt x="16053" y="0"/>
                    </a:lnTo>
                    <a:close/>
                  </a:path>
                </a:pathLst>
              </a:custGeom>
              <a:noFill/>
              <a:ln w="19080">
                <a:solidFill>
                  <a:srgbClr val="33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" name="Arc 30"/>
              <p:cNvSpPr/>
              <p:nvPr/>
            </p:nvSpPr>
            <p:spPr>
              <a:xfrm rot="2524800">
                <a:off x="428760" y="-399600"/>
                <a:ext cx="1266840" cy="2084400"/>
              </a:xfrm>
              <a:custGeom>
                <a:avLst/>
                <a:gdLst>
                  <a:gd name="textAreaLeft" fmla="*/ 0 w 1266840"/>
                  <a:gd name="textAreaRight" fmla="*/ 1267200 w 1266840"/>
                  <a:gd name="textAreaTop" fmla="*/ 0 h 2084400"/>
                  <a:gd name="textAreaBottom" fmla="*/ 2084400 h 2084400"/>
                </a:gdLst>
                <a:ahLst/>
                <a:rect l="textAreaLeft" t="textAreaTop" r="textAreaRight" b="textAreaBottom"/>
                <a:pathLst>
                  <a:path fill="none" w="21600" h="37724">
                    <a:moveTo>
                      <a:pt x="14172" y="0"/>
                    </a:moveTo>
                    <a:cubicBezTo>
                      <a:pt x="18890" y="4102"/>
                      <a:pt x="21600" y="10047"/>
                      <a:pt x="21600" y="16300"/>
                    </a:cubicBezTo>
                    <a:cubicBezTo>
                      <a:pt x="21600" y="27166"/>
                      <a:pt x="13527" y="-29195"/>
                      <a:pt x="2749" y="-27812"/>
                    </a:cubicBezTo>
                  </a:path>
                  <a:path stroke="0" w="21600" h="37724">
                    <a:moveTo>
                      <a:pt x="14172" y="0"/>
                    </a:moveTo>
                    <a:cubicBezTo>
                      <a:pt x="18890" y="4102"/>
                      <a:pt x="21600" y="10047"/>
                      <a:pt x="21600" y="16300"/>
                    </a:cubicBezTo>
                    <a:cubicBezTo>
                      <a:pt x="21600" y="27166"/>
                      <a:pt x="13527" y="-29195"/>
                      <a:pt x="2749" y="-27812"/>
                    </a:cubicBezTo>
                    <a:lnTo>
                      <a:pt x="0" y="16300"/>
                    </a:lnTo>
                    <a:lnTo>
                      <a:pt x="14172" y="0"/>
                    </a:lnTo>
                    <a:close/>
                  </a:path>
                </a:pathLst>
              </a:custGeom>
              <a:noFill/>
              <a:ln w="1908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5" name="Oval 33"/>
            <p:cNvSpPr/>
            <p:nvPr/>
          </p:nvSpPr>
          <p:spPr>
            <a:xfrm>
              <a:off x="7810560" y="6478560"/>
              <a:ext cx="501480" cy="347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33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Line 35"/>
            <p:cNvSpPr/>
            <p:nvPr/>
          </p:nvSpPr>
          <p:spPr>
            <a:xfrm>
              <a:off x="1692360" y="673200"/>
              <a:ext cx="745164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Line 36"/>
            <p:cNvSpPr/>
            <p:nvPr/>
          </p:nvSpPr>
          <p:spPr>
            <a:xfrm>
              <a:off x="1692360" y="620640"/>
              <a:ext cx="7451640" cy="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8" name="Picture 21" descr="http://im1-tub-ru.yandex.net/i?id=58fc853ec26b7e82d29bb6daa575a5da-135-144&amp;n=21"/>
          <p:cNvPicPr/>
          <p:nvPr/>
        </p:nvPicPr>
        <p:blipFill>
          <a:blip r:embed="rId3"/>
          <a:stretch/>
        </p:blipFill>
        <p:spPr>
          <a:xfrm>
            <a:off x="3286080" y="3857760"/>
            <a:ext cx="2857680" cy="2428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3" descr="http://im1-tub-ru.yandex.net/i?id=de755d2fa5ae5455d7740e2bb58bed22-101-144&amp;n=21"/>
          <p:cNvPicPr/>
          <p:nvPr/>
        </p:nvPicPr>
        <p:blipFill>
          <a:blip r:embed="rId4"/>
          <a:stretch/>
        </p:blipFill>
        <p:spPr>
          <a:xfrm>
            <a:off x="6637320" y="2000160"/>
            <a:ext cx="2506680" cy="2428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5" descr="http://im0-tub-ru.yandex.net/i?id=e323e3d815fe9ad09e762579edf4d1b4-19-144&amp;n=21"/>
          <p:cNvPicPr/>
          <p:nvPr/>
        </p:nvPicPr>
        <p:blipFill>
          <a:blip r:embed="rId5"/>
          <a:stretch/>
        </p:blipFill>
        <p:spPr>
          <a:xfrm>
            <a:off x="3143160" y="1500120"/>
            <a:ext cx="2943360" cy="1928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utoShape 14"/>
          <p:cNvSpPr/>
          <p:nvPr/>
        </p:nvSpPr>
        <p:spPr>
          <a:xfrm>
            <a:off x="644400" y="2852640"/>
            <a:ext cx="288000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 Box 18"/>
          <p:cNvSpPr/>
          <p:nvPr/>
        </p:nvSpPr>
        <p:spPr>
          <a:xfrm>
            <a:off x="785880" y="642960"/>
            <a:ext cx="813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6699"/>
                </a:solidFill>
                <a:latin typeface="Verdana"/>
              </a:rPr>
              <a:t>Современност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Group 21"/>
          <p:cNvGrpSpPr/>
          <p:nvPr/>
        </p:nvGrpSpPr>
        <p:grpSpPr>
          <a:xfrm>
            <a:off x="-308520" y="-759960"/>
            <a:ext cx="9452520" cy="7627320"/>
            <a:chOff x="-308520" y="-759960"/>
            <a:chExt cx="9452520" cy="7627320"/>
          </a:xfrm>
        </p:grpSpPr>
        <p:sp>
          <p:nvSpPr>
            <p:cNvPr id="124" name="Line 22"/>
            <p:cNvSpPr/>
            <p:nvPr/>
          </p:nvSpPr>
          <p:spPr>
            <a:xfrm>
              <a:off x="0" y="6392880"/>
              <a:ext cx="8675640" cy="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Line 23"/>
            <p:cNvSpPr/>
            <p:nvPr/>
          </p:nvSpPr>
          <p:spPr>
            <a:xfrm>
              <a:off x="0" y="6443640"/>
              <a:ext cx="889308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Line 24"/>
            <p:cNvSpPr/>
            <p:nvPr/>
          </p:nvSpPr>
          <p:spPr>
            <a:xfrm>
              <a:off x="290520" y="1268280"/>
              <a:ext cx="0" cy="558972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Line 25"/>
            <p:cNvSpPr/>
            <p:nvPr/>
          </p:nvSpPr>
          <p:spPr>
            <a:xfrm>
              <a:off x="236520" y="1196280"/>
              <a:ext cx="0" cy="566100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8" name="Group 26"/>
            <p:cNvGrpSpPr/>
            <p:nvPr/>
          </p:nvGrpSpPr>
          <p:grpSpPr>
            <a:xfrm>
              <a:off x="-308520" y="-759960"/>
              <a:ext cx="2625480" cy="2675880"/>
              <a:chOff x="-308520" y="-759960"/>
              <a:chExt cx="2625480" cy="2675880"/>
            </a:xfrm>
          </p:grpSpPr>
          <p:sp>
            <p:nvSpPr>
              <p:cNvPr id="129" name="Arc 27"/>
              <p:cNvSpPr/>
              <p:nvPr/>
            </p:nvSpPr>
            <p:spPr>
              <a:xfrm rot="2524800">
                <a:off x="149040" y="-325440"/>
                <a:ext cx="1509120" cy="1845000"/>
              </a:xfrm>
              <a:custGeom>
                <a:avLst/>
                <a:gdLst>
                  <a:gd name="textAreaLeft" fmla="*/ 0 w 1509120"/>
                  <a:gd name="textAreaRight" fmla="*/ 1509480 w 1509120"/>
                  <a:gd name="textAreaTop" fmla="*/ 0 h 1845000"/>
                  <a:gd name="textAreaBottom" fmla="*/ 1845360 h 1845000"/>
                </a:gdLst>
                <a:ahLst/>
                <a:rect l="textAreaLeft" t="textAreaTop" r="textAreaRight" b="textAreaBottom"/>
                <a:pathLst>
                  <a:path fill="none" w="43200" h="43200">
                    <a:moveTo>
                      <a:pt x="31119" y="2211"/>
                    </a:moveTo>
                    <a:cubicBezTo>
                      <a:pt x="38514" y="5841"/>
                      <a:pt x="43200" y="13362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2524" y="-1"/>
                      <a:pt x="23448" y="59"/>
                      <a:pt x="24365" y="177"/>
                    </a:cubicBezTo>
                  </a:path>
                  <a:path stroke="0" w="43200" h="43200">
                    <a:moveTo>
                      <a:pt x="31119" y="2211"/>
                    </a:moveTo>
                    <a:cubicBezTo>
                      <a:pt x="38514" y="5841"/>
                      <a:pt x="43200" y="13362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2524" y="-1"/>
                      <a:pt x="23448" y="59"/>
                      <a:pt x="24365" y="177"/>
                    </a:cubicBezTo>
                    <a:lnTo>
                      <a:pt x="21600" y="21600"/>
                    </a:lnTo>
                    <a:lnTo>
                      <a:pt x="31119" y="22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30" name="Picture 28" descr="j0395941%5b1%5d"/>
              <p:cNvPicPr/>
              <p:nvPr/>
            </p:nvPicPr>
            <p:blipFill>
              <a:blip r:embed="rId1"/>
              <a:stretch/>
            </p:blipFill>
            <p:spPr>
              <a:xfrm>
                <a:off x="27000" y="8280"/>
                <a:ext cx="1504800" cy="119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Arc 29"/>
              <p:cNvSpPr/>
              <p:nvPr/>
            </p:nvSpPr>
            <p:spPr>
              <a:xfrm rot="2524800">
                <a:off x="240120" y="-534600"/>
                <a:ext cx="1527840" cy="2225520"/>
              </a:xfrm>
              <a:custGeom>
                <a:avLst/>
                <a:gdLst>
                  <a:gd name="textAreaLeft" fmla="*/ 0 w 1527840"/>
                  <a:gd name="textAreaRight" fmla="*/ 1528200 w 1527840"/>
                  <a:gd name="textAreaTop" fmla="*/ 0 h 2225520"/>
                  <a:gd name="textAreaBottom" fmla="*/ 2225880 h 2225520"/>
                </a:gdLst>
                <a:ahLst/>
                <a:rect l="textAreaLeft" t="textAreaTop" r="textAreaRight" b="textAreaBottom"/>
                <a:pathLst>
                  <a:path fill="none" w="21600" h="35286">
                    <a:moveTo>
                      <a:pt x="16053" y="0"/>
                    </a:moveTo>
                    <a:cubicBezTo>
                      <a:pt x="19624" y="3966"/>
                      <a:pt x="21600" y="9114"/>
                      <a:pt x="21600" y="14451"/>
                    </a:cubicBezTo>
                    <a:cubicBezTo>
                      <a:pt x="21600" y="24186"/>
                      <a:pt x="15087" y="32719"/>
                      <a:pt x="5696" y="-30250"/>
                    </a:cubicBezTo>
                  </a:path>
                  <a:path stroke="0" w="21600" h="35286">
                    <a:moveTo>
                      <a:pt x="16053" y="0"/>
                    </a:moveTo>
                    <a:cubicBezTo>
                      <a:pt x="19624" y="3966"/>
                      <a:pt x="21600" y="9114"/>
                      <a:pt x="21600" y="14451"/>
                    </a:cubicBezTo>
                    <a:cubicBezTo>
                      <a:pt x="21600" y="24186"/>
                      <a:pt x="15087" y="32719"/>
                      <a:pt x="5696" y="-30250"/>
                    </a:cubicBezTo>
                    <a:lnTo>
                      <a:pt x="0" y="14451"/>
                    </a:lnTo>
                    <a:lnTo>
                      <a:pt x="16053" y="0"/>
                    </a:lnTo>
                    <a:close/>
                  </a:path>
                </a:pathLst>
              </a:custGeom>
              <a:noFill/>
              <a:ln w="19080">
                <a:solidFill>
                  <a:srgbClr val="33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" name="Arc 30"/>
              <p:cNvSpPr/>
              <p:nvPr/>
            </p:nvSpPr>
            <p:spPr>
              <a:xfrm rot="2524800">
                <a:off x="428760" y="-399600"/>
                <a:ext cx="1266840" cy="2084400"/>
              </a:xfrm>
              <a:custGeom>
                <a:avLst/>
                <a:gdLst>
                  <a:gd name="textAreaLeft" fmla="*/ 0 w 1266840"/>
                  <a:gd name="textAreaRight" fmla="*/ 1267200 w 1266840"/>
                  <a:gd name="textAreaTop" fmla="*/ 0 h 2084400"/>
                  <a:gd name="textAreaBottom" fmla="*/ 2084400 h 2084400"/>
                </a:gdLst>
                <a:ahLst/>
                <a:rect l="textAreaLeft" t="textAreaTop" r="textAreaRight" b="textAreaBottom"/>
                <a:pathLst>
                  <a:path fill="none" w="21600" h="37724">
                    <a:moveTo>
                      <a:pt x="14172" y="0"/>
                    </a:moveTo>
                    <a:cubicBezTo>
                      <a:pt x="18890" y="4102"/>
                      <a:pt x="21600" y="10047"/>
                      <a:pt x="21600" y="16300"/>
                    </a:cubicBezTo>
                    <a:cubicBezTo>
                      <a:pt x="21600" y="27166"/>
                      <a:pt x="13527" y="-29195"/>
                      <a:pt x="2749" y="-27812"/>
                    </a:cubicBezTo>
                  </a:path>
                  <a:path stroke="0" w="21600" h="37724">
                    <a:moveTo>
                      <a:pt x="14172" y="0"/>
                    </a:moveTo>
                    <a:cubicBezTo>
                      <a:pt x="18890" y="4102"/>
                      <a:pt x="21600" y="10047"/>
                      <a:pt x="21600" y="16300"/>
                    </a:cubicBezTo>
                    <a:cubicBezTo>
                      <a:pt x="21600" y="27166"/>
                      <a:pt x="13527" y="-29195"/>
                      <a:pt x="2749" y="-27812"/>
                    </a:cubicBezTo>
                    <a:lnTo>
                      <a:pt x="0" y="16300"/>
                    </a:lnTo>
                    <a:lnTo>
                      <a:pt x="14172" y="0"/>
                    </a:lnTo>
                    <a:close/>
                  </a:path>
                </a:pathLst>
              </a:custGeom>
              <a:noFill/>
              <a:ln w="1908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3" name="Group 32"/>
            <p:cNvGrpSpPr/>
            <p:nvPr/>
          </p:nvGrpSpPr>
          <p:grpSpPr>
            <a:xfrm>
              <a:off x="7770960" y="6453360"/>
              <a:ext cx="576000" cy="414000"/>
              <a:chOff x="7770960" y="6453360"/>
              <a:chExt cx="576000" cy="414000"/>
            </a:xfrm>
          </p:grpSpPr>
          <p:sp>
            <p:nvSpPr>
              <p:cNvPr id="134" name="Oval 33"/>
              <p:cNvSpPr/>
              <p:nvPr/>
            </p:nvSpPr>
            <p:spPr>
              <a:xfrm>
                <a:off x="7810560" y="6478560"/>
                <a:ext cx="501480" cy="3477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5400000" blurRad="0" rotWithShape="0">
                  <a:srgbClr val="336699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35" name="Picture 34" descr=""/>
              <p:cNvPicPr/>
              <p:nvPr/>
            </p:nvPicPr>
            <p:blipFill>
              <a:blip r:embed="rId2"/>
              <a:srcRect l="0" t="-3520" r="0" b="0"/>
              <a:stretch/>
            </p:blipFill>
            <p:spPr>
              <a:xfrm>
                <a:off x="7770960" y="6453360"/>
                <a:ext cx="576000" cy="414000"/>
              </a:xfrm>
              <a:prstGeom prst="rect">
                <a:avLst/>
              </a:prstGeom>
              <a:ln w="0">
                <a:noFill/>
              </a:ln>
              <a:effectLst>
                <a:outerShdw dist="12600" dir="5400000" blurRad="0" rotWithShape="0">
                  <a:srgbClr val="336699">
                    <a:alpha val="50000"/>
                  </a:srgbClr>
                </a:outerShdw>
              </a:effectLst>
            </p:spPr>
          </p:pic>
        </p:grpSp>
        <p:sp>
          <p:nvSpPr>
            <p:cNvPr id="136" name="Line 35"/>
            <p:cNvSpPr/>
            <p:nvPr/>
          </p:nvSpPr>
          <p:spPr>
            <a:xfrm>
              <a:off x="1692360" y="673200"/>
              <a:ext cx="745164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Line 36"/>
            <p:cNvSpPr/>
            <p:nvPr/>
          </p:nvSpPr>
          <p:spPr>
            <a:xfrm>
              <a:off x="1692360" y="620640"/>
              <a:ext cx="7451640" cy="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8" name="Picture 2" descr=""/>
          <p:cNvPicPr/>
          <p:nvPr/>
        </p:nvPicPr>
        <p:blipFill>
          <a:blip r:embed="rId3"/>
          <a:stretch/>
        </p:blipFill>
        <p:spPr>
          <a:xfrm>
            <a:off x="2268360" y="1617840"/>
            <a:ext cx="4535640" cy="4997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"/>
          <p:cNvPicPr/>
          <p:nvPr/>
        </p:nvPicPr>
        <p:blipFill>
          <a:blip r:embed="rId4"/>
          <a:stretch/>
        </p:blipFill>
        <p:spPr>
          <a:xfrm>
            <a:off x="539640" y="4089240"/>
            <a:ext cx="2733840" cy="24688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"/>
          <p:cNvPicPr/>
          <p:nvPr/>
        </p:nvPicPr>
        <p:blipFill>
          <a:blip r:embed="rId5"/>
          <a:stretch/>
        </p:blipFill>
        <p:spPr>
          <a:xfrm>
            <a:off x="6389640" y="4149720"/>
            <a:ext cx="2584440" cy="2408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Verdana"/>
              </a:rPr>
              <a:t>«Система контроля и мониторинга качества знаний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PROClass</a:t>
            </a:r>
            <a:r>
              <a:rPr b="1" lang="ru-RU" sz="2800" spc="-1" strike="noStrike">
                <a:solidFill>
                  <a:srgbClr val="0070c0"/>
                </a:solidFill>
                <a:latin typeface="Verdana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о интерактивная система тестирования, предназначенная для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оперативной проверки знани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обучающихся. С её помощью проводится текущий, тематический и итоговый контроль знаний и мониторинг образовательных достижений обучающих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Verdana"/>
              </a:rPr>
              <a:t>Преимущества системы </a:t>
            </a:r>
            <a:r>
              <a:rPr b="1" lang="en-US" sz="3600" spc="-1" strike="noStrike">
                <a:solidFill>
                  <a:srgbClr val="7030a0"/>
                </a:solidFill>
                <a:latin typeface="Verdana"/>
              </a:rPr>
              <a:t>PROClas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9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Verdana"/>
                <a:ea typeface="Arial"/>
              </a:rPr>
              <a:t>Индивидуальная, парная и  групповая работ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spcBef>
                <a:spcPts val="9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Verdana"/>
                <a:ea typeface="Arial"/>
              </a:rPr>
              <a:t>Контроль знани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Picture 28" descr="j0395941%5b1%5d"/>
          <p:cNvPicPr/>
          <p:nvPr/>
        </p:nvPicPr>
        <p:blipFill>
          <a:blip r:embed="rId1"/>
          <a:stretch/>
        </p:blipFill>
        <p:spPr>
          <a:xfrm>
            <a:off x="0" y="0"/>
            <a:ext cx="1504800" cy="11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05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Verdana"/>
              </a:rPr>
              <a:t>Возможности: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85840" y="1643040"/>
            <a:ext cx="857232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здавать собственные тесты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ыстро и эффективно проводить текущий, тематический и итоговый контроль знаний, не нарушая целостности образовательного процесса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удобной форме осуществлять контроль присутствия обучающихс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хранять в памяти компьютера Базу данных, наполняя портфолио учебных достижений ученик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водить мониторинг качества знаний обучающегося в течение всего периода обуч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Verdana"/>
              </a:rPr>
              <a:t>Принципы работы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Verdana"/>
              </a:rPr>
              <a:t>1. Интерактивность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Verdana"/>
              </a:rPr>
              <a:t>2. Доступность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Verdana"/>
              </a:rPr>
              <a:t>3. Ситуация успеха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rcRect l="0" t="27021" r="0" b="0"/>
          <a:stretch/>
        </p:blipFill>
        <p:spPr>
          <a:xfrm>
            <a:off x="395280" y="1989000"/>
            <a:ext cx="8209080" cy="4256280"/>
          </a:xfrm>
          <a:prstGeom prst="rect">
            <a:avLst/>
          </a:prstGeom>
          <a:ln w="0">
            <a:noFill/>
          </a:ln>
        </p:spPr>
      </p:pic>
      <p:sp>
        <p:nvSpPr>
          <p:cNvPr id="151" name="Прямоугольник 1"/>
          <p:cNvSpPr/>
          <p:nvPr/>
        </p:nvSpPr>
        <p:spPr>
          <a:xfrm>
            <a:off x="919440" y="476280"/>
            <a:ext cx="647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Система </a:t>
            </a:r>
            <a:r>
              <a:rPr b="1" lang="en-US" sz="2400" spc="-1" strike="noStrike">
                <a:solidFill>
                  <a:srgbClr val="002060"/>
                </a:solidFill>
                <a:latin typeface="Verdana"/>
              </a:rPr>
              <a:t>PROClass</a:t>
            </a: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 представле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программно-аппаратным комплексом</a:t>
            </a:r>
            <a:r>
              <a:rPr b="1" lang="en-US" sz="24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7T12:07:59Z</dcterms:created>
  <dc:creator>DESIGN</dc:creator>
  <dc:description/>
  <dc:language>en-US</dc:language>
  <cp:lastModifiedBy>user</cp:lastModifiedBy>
  <dcterms:modified xsi:type="dcterms:W3CDTF">2017-11-06T06:37:33Z</dcterms:modified>
  <cp:revision>52</cp:revision>
  <dc:subject/>
  <dc:title>Слайд 1</dc:title>
</cp:coreProperties>
</file>