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C3A-D343-4C7A-8863-0213FBBD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4B9-2BAB-4D89-A39B-0D0424E9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589-8CA6-4098-95AF-6CE7A826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5AB-767E-4BDC-9F74-C9AFC1ED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935F-2D55-4B05-A53A-26AD73E7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59BC-AFEA-45A2-81D9-C3B2FD5A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B4B7-41EB-4612-BA99-DD385B45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79C8-7D9D-438B-A1E4-AB458F0D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10F5-A96B-4BB9-BC78-6D0CD9E7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5A54-A511-48A1-A783-D8FBE477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04B8-6945-4DEA-BCCC-AD5F896F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C05-A293-47EF-95AD-F91176C5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5E5D-BB42-4987-9323-8426A64A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7F38-841B-45AC-9A63-56FD7555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3886-E573-4400-BDC9-22FC7975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AEF1-32B2-4B24-9C8E-BEB45855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477B-FC03-4784-A644-593FC0E5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FA7-1614-4E83-A395-7CC6F19D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8EA-9091-4B79-8140-D47F97AD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1C2-79F9-42B5-B867-5A823864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3A4-923E-4B7E-AF49-A1A43E61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447-66B2-4FFA-B4F5-27B07CB7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A1F-0954-4BC8-8085-AAB607A7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350-5CD9-41F8-BF4B-394681BC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F3CE-3137-4F99-A745-41F5D16623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50920" y="620640"/>
            <a:ext cx="889308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A54C-E094-4435-A80C-B568C1C3F14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55640" y="1341360"/>
            <a:ext cx="8031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Система 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и мониторинга качества знаний </a:t>
            </a: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PROCLass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- современное средство оценки знаний обучаю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88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93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Порядок рабо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Наличие одного компьютера(для учителя) и проектор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Приёмник сигналов и программное обеспеч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Беспроводные пульты с индивидуальными чип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42960" y="347760"/>
            <a:ext cx="78580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42960" y="189000"/>
            <a:ext cx="7858080" cy="591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3059280" y="2817720"/>
            <a:ext cx="535284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14040"/>
            <a:ext cx="93250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Verdana"/>
              </a:rPr>
              <a:t>Отчёт о результатах тест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2" descr="C:\Users\Lenovo\Pictures\скрин результаты.png"/>
          <p:cNvPicPr/>
          <p:nvPr/>
        </p:nvPicPr>
        <p:blipFill>
          <a:blip r:embed="rId1"/>
          <a:stretch/>
        </p:blipFill>
        <p:spPr>
          <a:xfrm>
            <a:off x="903240" y="1031760"/>
            <a:ext cx="7705800" cy="572292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06760" cy="4084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4464000" y="335772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500720" y="262080"/>
            <a:ext cx="4348080" cy="313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233280" y="3343320"/>
            <a:ext cx="4122720" cy="294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4356000" y="3403440"/>
            <a:ext cx="4492800" cy="288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4"/>
          <a:stretch/>
        </p:blipFill>
        <p:spPr>
          <a:xfrm>
            <a:off x="187200" y="171360"/>
            <a:ext cx="43135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Verdana"/>
              </a:rPr>
              <a:t>Проблема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Способы выявления качества знаний обучающих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Поиск оптимальных форм контроля зна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Оценивание качества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1643040" y="6429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Verdana"/>
              </a:rPr>
              <a:t>ТРАДИ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9" descr="http://im1-tub-ru.yandex.net/i?id=fd7dea0877f3ea8da9991802ad1681b7-55-144&amp;n=21"/>
          <p:cNvPicPr/>
          <p:nvPr/>
        </p:nvPicPr>
        <p:blipFill>
          <a:blip r:embed="rId1"/>
          <a:stretch/>
        </p:blipFill>
        <p:spPr>
          <a:xfrm>
            <a:off x="392040" y="1643040"/>
            <a:ext cx="2608200" cy="29289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106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0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11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8" descr="j0395941%5b1%5d"/>
              <p:cNvPicPr/>
              <p:nvPr/>
            </p:nvPicPr>
            <p:blipFill>
              <a:blip r:embed="rId2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Picture 21" descr="http://im1-tub-ru.yandex.net/i?id=58fc853ec26b7e82d29bb6daa575a5da-135-144&amp;n=21"/>
          <p:cNvPicPr/>
          <p:nvPr/>
        </p:nvPicPr>
        <p:blipFill>
          <a:blip r:embed="rId3"/>
          <a:stretch/>
        </p:blipFill>
        <p:spPr>
          <a:xfrm>
            <a:off x="3286080" y="3857760"/>
            <a:ext cx="285768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http://im1-tub-ru.yandex.net/i?id=de755d2fa5ae5455d7740e2bb58bed22-101-144&amp;n=21"/>
          <p:cNvPicPr/>
          <p:nvPr/>
        </p:nvPicPr>
        <p:blipFill>
          <a:blip r:embed="rId4"/>
          <a:stretch/>
        </p:blipFill>
        <p:spPr>
          <a:xfrm>
            <a:off x="6637320" y="2000160"/>
            <a:ext cx="2506680" cy="24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http://im0-tub-ru.yandex.net/i?id=e323e3d815fe9ad09e762579edf4d1b4-19-144&amp;n=21"/>
          <p:cNvPicPr/>
          <p:nvPr/>
        </p:nvPicPr>
        <p:blipFill>
          <a:blip r:embed="rId5"/>
          <a:stretch/>
        </p:blipFill>
        <p:spPr>
          <a:xfrm>
            <a:off x="3143160" y="1500120"/>
            <a:ext cx="2943360" cy="19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85880" y="64296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99"/>
                </a:solidFill>
                <a:latin typeface="Verdana"/>
              </a:rPr>
              <a:t>Современно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-308520" y="-759960"/>
            <a:ext cx="9452520" cy="7627320"/>
            <a:chOff x="-308520" y="-759960"/>
            <a:chExt cx="9452520" cy="7627320"/>
          </a:xfrm>
        </p:grpSpPr>
        <p:sp>
          <p:nvSpPr>
            <p:cNvPr id="124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8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29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0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Group 32"/>
            <p:cNvGrpSpPr/>
            <p:nvPr/>
          </p:nvGrpSpPr>
          <p:grpSpPr>
            <a:xfrm>
              <a:off x="7770960" y="6453360"/>
              <a:ext cx="576000" cy="414000"/>
              <a:chOff x="7770960" y="6453360"/>
              <a:chExt cx="576000" cy="414000"/>
            </a:xfrm>
          </p:grpSpPr>
          <p:sp>
            <p:nvSpPr>
              <p:cNvPr id="134" name="Oval 33"/>
              <p:cNvSpPr/>
              <p:nvPr/>
            </p:nvSpPr>
            <p:spPr>
              <a:xfrm>
                <a:off x="7810560" y="6478560"/>
                <a:ext cx="501480" cy="347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5" name="Picture 34" descr=""/>
              <p:cNvPicPr/>
              <p:nvPr/>
            </p:nvPicPr>
            <p:blipFill>
              <a:blip r:embed="rId2"/>
              <a:srcRect l="0" t="-3520" r="0" b="0"/>
              <a:stretch/>
            </p:blipFill>
            <p:spPr>
              <a:xfrm>
                <a:off x="7770960" y="6453360"/>
                <a:ext cx="576000" cy="4140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</p:pic>
        </p:grpSp>
        <p:sp>
          <p:nvSpPr>
            <p:cNvPr id="13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2268360" y="1617840"/>
            <a:ext cx="4535640" cy="499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539640" y="4089240"/>
            <a:ext cx="2733840" cy="2468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5"/>
          <a:stretch/>
        </p:blipFill>
        <p:spPr>
          <a:xfrm>
            <a:off x="6389640" y="4149720"/>
            <a:ext cx="2584440" cy="240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«Система контроля и мониторинга качества знаний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PROClass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интерактивная система тестирования, предназначенная д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перативной проверки зна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учающихся. С её помощью проводится текущий, тематический и итоговый контроль знаний и мониторинг образовательных достижений обучающих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Verdana"/>
              </a:rPr>
              <a:t>Преимущества системы </a:t>
            </a:r>
            <a:r>
              <a:rPr b="1" lang="en-US" sz="3600" spc="-1" strike="noStrike">
                <a:solidFill>
                  <a:srgbClr val="7030a0"/>
                </a:solidFill>
                <a:latin typeface="Verdana"/>
              </a:rPr>
              <a:t>PROCla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Индивидуальная, парная и  группов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Контроль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28" descr="j0395941%5b1%5d"/>
          <p:cNvPicPr/>
          <p:nvPr/>
        </p:nvPicPr>
        <p:blipFill>
          <a:blip r:embed="rId1"/>
          <a:stretch/>
        </p:blipFill>
        <p:spPr>
          <a:xfrm>
            <a:off x="0" y="0"/>
            <a:ext cx="150480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Возможности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5840" y="1643040"/>
            <a:ext cx="857232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вать собственные тес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стро и эффективно проводить текущий, тематический и итоговый контроль знаний, не нарушая целостности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удобной форме осуществлять контроль присутствия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ть в памяти компьютера Базу данных, наполняя портфолио учебных достижений уче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ь мониторинг качества знаний обучающегося в течение всего периода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Принципы работ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1. Интерактив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2. Доступ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3. Ситуация успех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rcRect l="0" t="27021" r="0" b="0"/>
          <a:stretch/>
        </p:blipFill>
        <p:spPr>
          <a:xfrm>
            <a:off x="395280" y="1989000"/>
            <a:ext cx="8209080" cy="425628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919440" y="476280"/>
            <a:ext cx="64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истема 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PROClass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представл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программно-аппаратным комплексом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2:07:59Z</dcterms:created>
  <dc:creator>DESIGN</dc:creator>
  <dc:description/>
  <dc:language>en-US</dc:language>
  <cp:lastModifiedBy>user</cp:lastModifiedBy>
  <dcterms:modified xsi:type="dcterms:W3CDTF">2017-11-06T06:37:33Z</dcterms:modified>
  <cp:revision>52</cp:revision>
  <dc:subject/>
  <dc:title>Слайд 1</dc:title>
</cp:coreProperties>
</file>