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96E-D1C2-4B24-8BEC-1B7D75BF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483-A4B6-4D65-B164-272269FD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A5D-5AAD-427D-860F-7DDD72DD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80E-EA56-4728-BC06-ACC41BF9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1E9-063B-45E1-862E-82269E40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1FF0-F840-4EDD-BE16-CDF51879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2B9A-66DF-492C-A86D-15C1AE6C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4A88-A13B-4016-9880-0E513A05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BDCE-FDB3-4C0A-85DF-A158A393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8354-496C-488F-8BE1-F7E277B2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1D74-ED06-41C3-9294-F20FF272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422-A68C-47D6-A3CD-B89913A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535F-DD02-456A-9707-65BFFED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C7FF-6BAF-4400-8A3C-FC6CBCA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3BB5-0D4E-4D6C-BC0D-46899B96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1745-6200-493D-856D-B79D34D9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0E86-A18B-4B1C-A8D7-D5ED0158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1AE-43F6-4F7C-8350-93469242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33D-001E-4BCF-87C8-E40FE244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E3A-3E08-44C0-BB91-1A1D6A83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7B1-2044-48ED-AE77-CF8A78D8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1B0-E375-4890-8004-5E3A49E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14F-9BBD-4DA2-89E5-E1D139D7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881-770D-4DF7-8513-1A08CD6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E49D-F2AE-49FE-BAF1-EB37412A548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50920" y="620640"/>
            <a:ext cx="889308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706B-FF4A-4BB3-AE29-8167AA3DFD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55640" y="1341360"/>
            <a:ext cx="8031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Система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и мониторинга качества знаний 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PROCLass</a:t>
            </a: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- современное средство оценки знаний обучаю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88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93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7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Порядок работ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Наличие одного компьютера(для учителя) и проектор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Приёмник сигналов и программное обеспеч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Беспроводные пульты с индивидуальными чип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42960" y="347760"/>
            <a:ext cx="78580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42960" y="189000"/>
            <a:ext cx="7858080" cy="5919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059280" y="2817720"/>
            <a:ext cx="53528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14040"/>
            <a:ext cx="9325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Verdana"/>
              </a:rPr>
              <a:t>Отчёт о результатах тест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2" descr="C:\Users\Lenovo\Pictures\скрин результаты.png"/>
          <p:cNvPicPr/>
          <p:nvPr/>
        </p:nvPicPr>
        <p:blipFill>
          <a:blip r:embed="rId1"/>
          <a:stretch/>
        </p:blipFill>
        <p:spPr>
          <a:xfrm>
            <a:off x="903240" y="1031760"/>
            <a:ext cx="7705800" cy="57229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06760" cy="408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4464000" y="335772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00720" y="262080"/>
            <a:ext cx="4348080" cy="313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233280" y="3343320"/>
            <a:ext cx="41227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4356000" y="3403440"/>
            <a:ext cx="4492800" cy="288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4"/>
          <a:stretch/>
        </p:blipFill>
        <p:spPr>
          <a:xfrm>
            <a:off x="187200" y="171360"/>
            <a:ext cx="43135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Verdana"/>
              </a:rPr>
              <a:t>Проблема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Способы выявления качества знаний обучающих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иск оптимальных форм контроля зна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Оценивание качества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1643040" y="6429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Verdana"/>
              </a:rPr>
              <a:t>ТРАД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9" descr="http://im1-tub-ru.yandex.net/i?id=fd7dea0877f3ea8da9991802ad1681b7-55-144&amp;n=21"/>
          <p:cNvPicPr/>
          <p:nvPr/>
        </p:nvPicPr>
        <p:blipFill>
          <a:blip r:embed="rId1"/>
          <a:stretch/>
        </p:blipFill>
        <p:spPr>
          <a:xfrm>
            <a:off x="392040" y="1643040"/>
            <a:ext cx="260820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1"/>
          <p:cNvGrpSpPr/>
          <p:nvPr/>
        </p:nvGrpSpPr>
        <p:grpSpPr>
          <a:xfrm>
            <a:off x="-308520" y="-759960"/>
            <a:ext cx="9452520" cy="7617960"/>
            <a:chOff x="-308520" y="-759960"/>
            <a:chExt cx="9452520" cy="7617960"/>
          </a:xfrm>
        </p:grpSpPr>
        <p:sp>
          <p:nvSpPr>
            <p:cNvPr id="106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11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8" descr="j0395941%5b1%5d"/>
              <p:cNvPicPr/>
              <p:nvPr/>
            </p:nvPicPr>
            <p:blipFill>
              <a:blip r:embed="rId2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Oval 33"/>
            <p:cNvSpPr/>
            <p:nvPr/>
          </p:nvSpPr>
          <p:spPr>
            <a:xfrm>
              <a:off x="7810560" y="6478560"/>
              <a:ext cx="5014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33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" name="Picture 21" descr="http://im1-tub-ru.yandex.net/i?id=58fc853ec26b7e82d29bb6daa575a5da-135-144&amp;n=21"/>
          <p:cNvPicPr/>
          <p:nvPr/>
        </p:nvPicPr>
        <p:blipFill>
          <a:blip r:embed="rId3"/>
          <a:stretch/>
        </p:blipFill>
        <p:spPr>
          <a:xfrm>
            <a:off x="3286080" y="3857760"/>
            <a:ext cx="285768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http://im1-tub-ru.yandex.net/i?id=de755d2fa5ae5455d7740e2bb58bed22-101-144&amp;n=21"/>
          <p:cNvPicPr/>
          <p:nvPr/>
        </p:nvPicPr>
        <p:blipFill>
          <a:blip r:embed="rId4"/>
          <a:stretch/>
        </p:blipFill>
        <p:spPr>
          <a:xfrm>
            <a:off x="6637320" y="2000160"/>
            <a:ext cx="2506680" cy="24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http://im0-tub-ru.yandex.net/i?id=e323e3d815fe9ad09e762579edf4d1b4-19-144&amp;n=21"/>
          <p:cNvPicPr/>
          <p:nvPr/>
        </p:nvPicPr>
        <p:blipFill>
          <a:blip r:embed="rId5"/>
          <a:stretch/>
        </p:blipFill>
        <p:spPr>
          <a:xfrm>
            <a:off x="3143160" y="1500120"/>
            <a:ext cx="2943360" cy="19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4"/>
          <p:cNvSpPr/>
          <p:nvPr/>
        </p:nvSpPr>
        <p:spPr>
          <a:xfrm>
            <a:off x="644400" y="2852640"/>
            <a:ext cx="2880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85880" y="64296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Verdana"/>
              </a:rPr>
              <a:t>Современно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-308520" y="-759960"/>
            <a:ext cx="9452520" cy="7627320"/>
            <a:chOff x="-308520" y="-759960"/>
            <a:chExt cx="9452520" cy="7627320"/>
          </a:xfrm>
        </p:grpSpPr>
        <p:sp>
          <p:nvSpPr>
            <p:cNvPr id="124" name="Line 22"/>
            <p:cNvSpPr/>
            <p:nvPr/>
          </p:nvSpPr>
          <p:spPr>
            <a:xfrm>
              <a:off x="0" y="6392880"/>
              <a:ext cx="8675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0" y="6443640"/>
              <a:ext cx="88930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290520" y="1268280"/>
              <a:ext cx="0" cy="55897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236520" y="1196280"/>
              <a:ext cx="0" cy="5661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8" name="Group 26"/>
            <p:cNvGrpSpPr/>
            <p:nvPr/>
          </p:nvGrpSpPr>
          <p:grpSpPr>
            <a:xfrm>
              <a:off x="-308520" y="-759960"/>
              <a:ext cx="2625480" cy="2675880"/>
              <a:chOff x="-308520" y="-759960"/>
              <a:chExt cx="2625480" cy="2675880"/>
            </a:xfrm>
          </p:grpSpPr>
          <p:sp>
            <p:nvSpPr>
              <p:cNvPr id="129" name="Arc 27"/>
              <p:cNvSpPr/>
              <p:nvPr/>
            </p:nvSpPr>
            <p:spPr>
              <a:xfrm rot="2524800">
                <a:off x="149040" y="-325440"/>
                <a:ext cx="1509120" cy="1845000"/>
              </a:xfrm>
              <a:custGeom>
                <a:avLst/>
                <a:gdLst>
                  <a:gd name="textAreaLeft" fmla="*/ 0 w 1509120"/>
                  <a:gd name="textAreaRight" fmla="*/ 1509480 w 1509120"/>
                  <a:gd name="textAreaTop" fmla="*/ 0 h 1845000"/>
                  <a:gd name="textAreaBottom" fmla="*/ 1845360 h 18450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</a:path>
                  <a:path stroke="0" w="43200" h="43200">
                    <a:moveTo>
                      <a:pt x="31119" y="2211"/>
                    </a:moveTo>
                    <a:cubicBezTo>
                      <a:pt x="38514" y="5841"/>
                      <a:pt x="43200" y="13362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2524" y="-1"/>
                      <a:pt x="23448" y="59"/>
                      <a:pt x="24365" y="177"/>
                    </a:cubicBezTo>
                    <a:lnTo>
                      <a:pt x="21600" y="21600"/>
                    </a:lnTo>
                    <a:lnTo>
                      <a:pt x="31119" y="2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0" name="Picture 28" descr="j0395941%5b1%5d"/>
              <p:cNvPicPr/>
              <p:nvPr/>
            </p:nvPicPr>
            <p:blipFill>
              <a:blip r:embed="rId1"/>
              <a:stretch/>
            </p:blipFill>
            <p:spPr>
              <a:xfrm>
                <a:off x="27000" y="8280"/>
                <a:ext cx="1504800" cy="11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Arc 29"/>
              <p:cNvSpPr/>
              <p:nvPr/>
            </p:nvSpPr>
            <p:spPr>
              <a:xfrm rot="2524800">
                <a:off x="240120" y="-534600"/>
                <a:ext cx="1527840" cy="2225520"/>
              </a:xfrm>
              <a:custGeom>
                <a:avLst/>
                <a:gdLst>
                  <a:gd name="textAreaLeft" fmla="*/ 0 w 1527840"/>
                  <a:gd name="textAreaRight" fmla="*/ 1528200 w 1527840"/>
                  <a:gd name="textAreaTop" fmla="*/ 0 h 2225520"/>
                  <a:gd name="textAreaBottom" fmla="*/ 2225880 h 2225520"/>
                </a:gdLst>
                <a:ahLst/>
                <a:rect l="textAreaLeft" t="textAreaTop" r="textAreaRight" b="textAreaBottom"/>
                <a:pathLst>
                  <a:path fill="none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</a:path>
                  <a:path stroke="0" w="21600" h="35286">
                    <a:moveTo>
                      <a:pt x="16053" y="0"/>
                    </a:moveTo>
                    <a:cubicBezTo>
                      <a:pt x="19624" y="3966"/>
                      <a:pt x="21600" y="9114"/>
                      <a:pt x="21600" y="14451"/>
                    </a:cubicBezTo>
                    <a:cubicBezTo>
                      <a:pt x="21600" y="24186"/>
                      <a:pt x="15087" y="32719"/>
                      <a:pt x="5696" y="-30250"/>
                    </a:cubicBezTo>
                    <a:lnTo>
                      <a:pt x="0" y="14451"/>
                    </a:lnTo>
                    <a:lnTo>
                      <a:pt x="16053" y="0"/>
                    </a:lnTo>
                    <a:close/>
                  </a:path>
                </a:pathLst>
              </a:custGeom>
              <a:noFill/>
              <a:ln w="1908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Arc 30"/>
              <p:cNvSpPr/>
              <p:nvPr/>
            </p:nvSpPr>
            <p:spPr>
              <a:xfrm rot="2524800">
                <a:off x="428760" y="-399600"/>
                <a:ext cx="1266840" cy="2084400"/>
              </a:xfrm>
              <a:custGeom>
                <a:avLst/>
                <a:gdLst>
                  <a:gd name="textAreaLeft" fmla="*/ 0 w 1266840"/>
                  <a:gd name="textAreaRight" fmla="*/ 1267200 w 1266840"/>
                  <a:gd name="textAreaTop" fmla="*/ 0 h 2084400"/>
                  <a:gd name="textAreaBottom" fmla="*/ 2084400 h 2084400"/>
                </a:gdLst>
                <a:ahLst/>
                <a:rect l="textAreaLeft" t="textAreaTop" r="textAreaRight" b="textAreaBottom"/>
                <a:pathLst>
                  <a:path fill="none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</a:path>
                  <a:path stroke="0" w="21600" h="37724">
                    <a:moveTo>
                      <a:pt x="14172" y="0"/>
                    </a:moveTo>
                    <a:cubicBezTo>
                      <a:pt x="18890" y="4102"/>
                      <a:pt x="21600" y="10047"/>
                      <a:pt x="21600" y="16300"/>
                    </a:cubicBezTo>
                    <a:cubicBezTo>
                      <a:pt x="21600" y="27166"/>
                      <a:pt x="13527" y="-29195"/>
                      <a:pt x="2749" y="-27812"/>
                    </a:cubicBezTo>
                    <a:lnTo>
                      <a:pt x="0" y="16300"/>
                    </a:lnTo>
                    <a:lnTo>
                      <a:pt x="14172" y="0"/>
                    </a:lnTo>
                    <a:close/>
                  </a:path>
                </a:pathLst>
              </a:custGeom>
              <a:noFill/>
              <a:ln w="1908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Group 32"/>
            <p:cNvGrpSpPr/>
            <p:nvPr/>
          </p:nvGrpSpPr>
          <p:grpSpPr>
            <a:xfrm>
              <a:off x="7770960" y="6453360"/>
              <a:ext cx="576000" cy="414000"/>
              <a:chOff x="7770960" y="6453360"/>
              <a:chExt cx="576000" cy="414000"/>
            </a:xfrm>
          </p:grpSpPr>
          <p:sp>
            <p:nvSpPr>
              <p:cNvPr id="134" name="Oval 33"/>
              <p:cNvSpPr/>
              <p:nvPr/>
            </p:nvSpPr>
            <p:spPr>
              <a:xfrm>
                <a:off x="7810560" y="6478560"/>
                <a:ext cx="501480" cy="347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5" name="Picture 34" descr=""/>
              <p:cNvPicPr/>
              <p:nvPr/>
            </p:nvPicPr>
            <p:blipFill>
              <a:blip r:embed="rId2"/>
              <a:srcRect l="0" t="-3520" r="0" b="0"/>
              <a:stretch/>
            </p:blipFill>
            <p:spPr>
              <a:xfrm>
                <a:off x="7770960" y="6453360"/>
                <a:ext cx="576000" cy="4140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336699">
                    <a:alpha val="50000"/>
                  </a:srgbClr>
                </a:outerShdw>
              </a:effectLst>
            </p:spPr>
          </p:pic>
        </p:grpSp>
        <p:sp>
          <p:nvSpPr>
            <p:cNvPr id="136" name="Line 35"/>
            <p:cNvSpPr/>
            <p:nvPr/>
          </p:nvSpPr>
          <p:spPr>
            <a:xfrm>
              <a:off x="1692360" y="673200"/>
              <a:ext cx="74516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1692360" y="620640"/>
              <a:ext cx="745164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268360" y="1617840"/>
            <a:ext cx="4535640" cy="499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539640" y="4089240"/>
            <a:ext cx="2733840" cy="246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5"/>
          <a:stretch/>
        </p:blipFill>
        <p:spPr>
          <a:xfrm>
            <a:off x="6389640" y="4149720"/>
            <a:ext cx="2584440" cy="240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«Система контроля и мониторинга качества знаний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PROClass</a:t>
            </a: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интерактивная система тестирования, предназначенная д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перативной проверки зна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учающихся. С её помощью проводится текущий, тематический и итоговый контроль знаний и мониторинг образовательных достижений обучаю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Verdana"/>
              </a:rPr>
              <a:t>Преимущества системы </a:t>
            </a: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PROCla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Индивидуальная, парная и  группов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Arial"/>
              </a:rPr>
              <a:t>Контроль зн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8" descr="j0395941%5b1%5d"/>
          <p:cNvPicPr/>
          <p:nvPr/>
        </p:nvPicPr>
        <p:blipFill>
          <a:blip r:embed="rId1"/>
          <a:stretch/>
        </p:blipFill>
        <p:spPr>
          <a:xfrm>
            <a:off x="0" y="0"/>
            <a:ext cx="15048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Verdana"/>
              </a:rPr>
              <a:t>Возможности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5840" y="1643040"/>
            <a:ext cx="857232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вать собственные тес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стро и эффективно проводить текущий, тематический и итоговый контроль знаний, не нарушая целостност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удобной форме осуществлять контроль присутствия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ть в памяти компьютера Базу данных, наполняя портфолио учебных достижений уче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ь мониторинг качества знаний обучающегося в течение всего периода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Принципы работ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1. Интерактив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2. Доступно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3. Ситуация успех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0" t="27021" r="0" b="0"/>
          <a:stretch/>
        </p:blipFill>
        <p:spPr>
          <a:xfrm>
            <a:off x="395280" y="1989000"/>
            <a:ext cx="8209080" cy="425628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919440" y="476280"/>
            <a:ext cx="64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Система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PROClass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 представл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рограммно-аппаратным комплексом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2:07:59Z</dcterms:created>
  <dc:creator>DESIGN</dc:creator>
  <dc:description/>
  <dc:language>en-US</dc:language>
  <cp:lastModifiedBy>user</cp:lastModifiedBy>
  <dcterms:modified xsi:type="dcterms:W3CDTF">2017-11-06T06:37:33Z</dcterms:modified>
  <cp:revision>52</cp:revision>
  <dc:subject/>
  <dc:title>Слайд 1</dc:title>
</cp:coreProperties>
</file>